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A81D-27C0-44EF-9763-4107CD64D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8036-4B24-418F-9289-1D055219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5876-C265-47C4-812C-78EB2C522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070C-3914-4AD1-B377-460553EA0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8D38-A9A2-446C-A6E6-97143D425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22E5-769B-47A2-B731-5109BF16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C543-D81C-4438-A34E-5A23CE29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A925-5471-45F6-BCE6-BA0255AB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7262E-EBA0-4109-AF2B-C907367E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EB68-088B-4B36-9A8D-F8D51065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7F78-AA74-499F-BDF6-3843EE85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FF93-E465-4056-86E2-662D7E36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CC9F-431F-424C-834C-B8851BC0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5600-165E-4A04-8FB3-BB7106D2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BAF9-0A9B-48CB-BAA0-382CEAC6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F929-FBE6-4313-A6CA-4FBA76A0F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E0A7-4076-4500-B8B2-C30E94218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660C-345A-4C3E-B4E0-06623DD4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5215-0701-4B4E-931C-EA786B51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78ED-129A-43BC-8EFF-5DE99902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C7C8-208C-42F2-96D1-07340F44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B2CD-6A51-4D89-998C-79A30591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71E8-FFEA-44B2-8414-048C687A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EB5E-4ACE-4F31-8CCB-55A8A628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8376-0E90-4C91-83C6-32678CB6688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2D38-D30D-40C2-AF2D-8B4FBF8A617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Arial"/>
              </a:rPr>
              <a:t>Sport/Physical Activity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Choose a sport or physical activity that you are interested in designing a training program for, in order to improve your performance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Arial"/>
              </a:rPr>
              <a:t>Training Progra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vise a Training Program consisting of the relevant Training Methods, making sure that the key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‘Training Principles’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re adhered to and applied, including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pecific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ns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requenc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ur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gressive Overlo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covery, etc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Arial"/>
              </a:rPr>
              <a:t>Di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nitor the Training program by keeping a diary which includes information such a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ensity (Heart Rates), Duration and Frequenc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ather condi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hysical well being (Injury/Illnes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erceived exer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eelings before, during and after training sess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en and What Progressive Overload is applied (Remember: Don’t exceed 10%, only overload one parameter at a time – unless program is far too easy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570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Arial"/>
              </a:rPr>
              <a:t>Mid Program Assessment (Optional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860200"/>
            <a:ext cx="7693200" cy="32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duct the Fitness Test battery again in order to monitor progress and make possibl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just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dific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di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le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cc"/>
                </a:solidFill>
                <a:latin typeface="Arial"/>
              </a:rPr>
              <a:t>Post-Tests (Fitness Test Battery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t the end of the Training program (Given sufficient recovery time from the final session), conduct the Fitness Test Battery again, making sure that you maintain consistency in terms of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ame time of da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milar condi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ame environment/surroundings/condi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32000" y="907920"/>
            <a:ext cx="73548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Arial"/>
              </a:rPr>
              <a:t>Post-Test Resul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3747960"/>
            <a:ext cx="7693200" cy="23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are the Post-Test results to the Pre-Test and Mid-Program results (If used) by contrasting th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‘Norms’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fore and af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cc"/>
                </a:solidFill>
                <a:latin typeface="Arial"/>
              </a:rPr>
              <a:t>Evaluation of Training Program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flect on’ and evaluate all aspects of the Training Program Design and Implementation, including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itability of Athlete chosen to analy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ethods of Data Analyses us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tness Tests chos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aining Methods chos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plication of Training Princip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y modifications ma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fluences/Factors affecting performance such as injury, illness, motivation, etc… (From Diar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Arial"/>
              </a:rPr>
              <a:t>Adjust/Re-set/Chan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3511080"/>
            <a:ext cx="7693200" cy="25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ke appropriate changes to the Training program and start again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560" y="1125000"/>
            <a:ext cx="74278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Arial"/>
              </a:rPr>
              <a:t>Set Pos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3570120"/>
            <a:ext cx="7693200" cy="25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interested in a team sport, choose a specific position within that team to analys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560" y="1268280"/>
            <a:ext cx="76438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Arial"/>
              </a:rPr>
              <a:t>Highest Standar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3808440"/>
            <a:ext cx="7693200" cy="22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oose the highest possible standard athlete available, in order to analyse the requirements for the sport/physical activity/set position chos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Arial"/>
              </a:rPr>
              <a:t>Data Collec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bserve and video the chosen athlete, making sure that they are in full view at all times. Select from the following option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vement Patter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kill Frequen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nsity Cha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R Monitor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:R Ratios, etc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560" y="274680"/>
            <a:ext cx="76438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Arial"/>
              </a:rPr>
              <a:t>Data Analy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860200"/>
            <a:ext cx="7693200" cy="32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alyse all of the data collected by producing Tables, Graphs, Calculations, Measurements, etc…and mak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Objectiv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Subjectiv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sessments about the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Physiological Requirement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f the Sport/Physical Activity/Posi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cc"/>
                </a:solidFill>
                <a:latin typeface="Arial"/>
              </a:rPr>
              <a:t>Pre-Tests (Fitness Test Battery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lect a range of Fitness Tests to carry out on yourself, making sure that the tests chosen are relevant to the findings of your analyses in regard t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ergy System contribu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tness Compon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jor Muscle grou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2560" y="836280"/>
            <a:ext cx="76438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Arial"/>
              </a:rPr>
              <a:t>Pre-Test Resul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3333240"/>
            <a:ext cx="7693200" cy="27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arify your Fitness Test results by comparing your results to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‘Norms’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bles and identifying a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‘Rating’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 each test (e.g. Excellent, Poor, Average, etc...)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63280" y="907920"/>
            <a:ext cx="69231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Arial"/>
              </a:rPr>
              <a:t>Set 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3570120"/>
            <a:ext cx="7693200" cy="25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alyse the Fitness Test results by looking at th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‘Ratings’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d then set realistic and achievable goals in terms of maintaining strengths and improving weaknes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Arial"/>
              </a:rPr>
              <a:t>Training Metho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lect Specific Training Methods (usually 3-4 in combination) in order to work on achieving your set goals. Choose from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erval Train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tinuous Train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artlek Train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ight Train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ircuit Train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lexibility Train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ilat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wiss Ball Training, etc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6T08:56:50Z</dcterms:created>
  <dc:creator>User</dc:creator>
  <dc:description/>
  <dc:language>en-US</dc:language>
  <cp:lastModifiedBy>Setup</cp:lastModifiedBy>
  <dcterms:modified xsi:type="dcterms:W3CDTF">2006-08-24T03:15:33Z</dcterms:modified>
  <cp:revision>4</cp:revision>
  <dc:subject/>
  <dc:title>Sport/Physical Activity</dc:title>
</cp:coreProperties>
</file>